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1BB78-CA0D-4465-AC44-66AF4B10A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3980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7d47d"/>
              </a:solidFill>
              <a:latin typeface="Kristen ITC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741708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178920" y="4055400"/>
            <a:ext cx="741708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6A5D4-EB1F-49EA-840A-474E8F8D1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3980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7d47d"/>
              </a:solidFill>
              <a:latin typeface="Kristen IT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361944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979800" y="1197000"/>
            <a:ext cx="361944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78920" y="4055400"/>
            <a:ext cx="361944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3979800" y="4055400"/>
            <a:ext cx="361944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C35B5-5484-4184-965B-47632CC36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3980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7d47d"/>
              </a:solidFill>
              <a:latin typeface="Kristen ITC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238788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686680" y="1197000"/>
            <a:ext cx="238788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194080" y="1197000"/>
            <a:ext cx="238788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178920" y="4055400"/>
            <a:ext cx="238788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686680" y="4055400"/>
            <a:ext cx="238788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194080" y="4055400"/>
            <a:ext cx="238788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A0BA6-616E-431E-B6B1-B965AE61B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3980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7d47d"/>
              </a:solidFill>
              <a:latin typeface="Kristen ITC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78920" y="1197000"/>
            <a:ext cx="741708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3980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7d47d"/>
              </a:solidFill>
              <a:latin typeface="Kristen ITC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74170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3980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7d47d"/>
              </a:solidFill>
              <a:latin typeface="Kristen IT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361944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979800" y="1197000"/>
            <a:ext cx="361944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3980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7d47d"/>
              </a:solidFill>
              <a:latin typeface="Kristen IT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179280" y="188640"/>
            <a:ext cx="7398000" cy="33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3980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7d47d"/>
              </a:solidFill>
              <a:latin typeface="Kristen IT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361944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979800" y="1197000"/>
            <a:ext cx="361944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178920" y="4055400"/>
            <a:ext cx="361944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3980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7d47d"/>
              </a:solidFill>
              <a:latin typeface="Kristen IT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78920" y="1197000"/>
            <a:ext cx="741708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4E56C-DA2A-4AC9-8779-844F7C4E4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3980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7d47d"/>
              </a:solidFill>
              <a:latin typeface="Kristen ITC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361944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979800" y="1197000"/>
            <a:ext cx="361944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979800" y="4055400"/>
            <a:ext cx="361944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3980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7d47d"/>
              </a:solidFill>
              <a:latin typeface="Kristen IT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361944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979800" y="1197000"/>
            <a:ext cx="361944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178920" y="4055400"/>
            <a:ext cx="741708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3980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7d47d"/>
              </a:solidFill>
              <a:latin typeface="Kristen ITC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741708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178920" y="4055400"/>
            <a:ext cx="741708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3980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7d47d"/>
              </a:solidFill>
              <a:latin typeface="Kristen ITC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361944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979800" y="1197000"/>
            <a:ext cx="361944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178920" y="4055400"/>
            <a:ext cx="361944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3979800" y="4055400"/>
            <a:ext cx="361944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3980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7d47d"/>
              </a:solidFill>
              <a:latin typeface="Kristen IT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238788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686680" y="1197000"/>
            <a:ext cx="238788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194080" y="1197000"/>
            <a:ext cx="238788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178920" y="4055400"/>
            <a:ext cx="238788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686680" y="4055400"/>
            <a:ext cx="238788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194080" y="4055400"/>
            <a:ext cx="238788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3980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7d47d"/>
              </a:solidFill>
              <a:latin typeface="Kristen IT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74170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50A6D-BA6A-4DB9-A55F-C67AC5D4C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3980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7d47d"/>
              </a:solidFill>
              <a:latin typeface="Kristen IT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361944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979800" y="1197000"/>
            <a:ext cx="361944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54F3E-02D4-4626-872C-87317ACD0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3980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7d47d"/>
              </a:solidFill>
              <a:latin typeface="Kristen IT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53F70-AFC0-47A9-A489-818FA4CB2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179280" y="188640"/>
            <a:ext cx="7398000" cy="33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2920C-79C0-4D52-9F28-52720B8CB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3980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7d47d"/>
              </a:solidFill>
              <a:latin typeface="Kristen ITC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361944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979800" y="1197000"/>
            <a:ext cx="361944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78920" y="4055400"/>
            <a:ext cx="361944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E75BD-F9B1-420B-AB13-F001B50F4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3980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7d47d"/>
              </a:solidFill>
              <a:latin typeface="Kristen ITC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361944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979800" y="1197000"/>
            <a:ext cx="361944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979800" y="4055400"/>
            <a:ext cx="361944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529EC-99BE-4135-ACD7-2AF94D271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3980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7d47d"/>
              </a:solidFill>
              <a:latin typeface="Kristen IT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361944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979800" y="1197000"/>
            <a:ext cx="361944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78920" y="4055400"/>
            <a:ext cx="741708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B7EA8-6BB1-4317-B68D-0148FD8F1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6.jpeg"/><Relationship Id="rId32" Type="http://schemas.openxmlformats.org/officeDocument/2006/relationships/image" Target="../media/image7.jpeg"/><Relationship Id="rId33" Type="http://schemas.openxmlformats.org/officeDocument/2006/relationships/slideLayout" Target="../slideLayouts/slideLayout13.xml"/><Relationship Id="rId34" Type="http://schemas.openxmlformats.org/officeDocument/2006/relationships/slideLayout" Target="../slideLayouts/slideLayout14.xml"/><Relationship Id="rId35" Type="http://schemas.openxmlformats.org/officeDocument/2006/relationships/slideLayout" Target="../slideLayouts/slideLayout15.xml"/><Relationship Id="rId36" Type="http://schemas.openxmlformats.org/officeDocument/2006/relationships/slideLayout" Target="../slideLayouts/slideLayout16.xml"/><Relationship Id="rId37" Type="http://schemas.openxmlformats.org/officeDocument/2006/relationships/slideLayout" Target="../slideLayouts/slideLayout17.xml"/><Relationship Id="rId38" Type="http://schemas.openxmlformats.org/officeDocument/2006/relationships/slideLayout" Target="../slideLayouts/slideLayout18.xml"/><Relationship Id="rId39" Type="http://schemas.openxmlformats.org/officeDocument/2006/relationships/slideLayout" Target="../slideLayouts/slideLayout19.xml"/><Relationship Id="rId40" Type="http://schemas.openxmlformats.org/officeDocument/2006/relationships/slideLayout" Target="../slideLayouts/slideLayout20.xml"/><Relationship Id="rId41" Type="http://schemas.openxmlformats.org/officeDocument/2006/relationships/slideLayout" Target="../slideLayouts/slideLayout21.xml"/><Relationship Id="rId42" Type="http://schemas.openxmlformats.org/officeDocument/2006/relationships/slideLayout" Target="../slideLayouts/slideLayout22.xml"/><Relationship Id="rId43" Type="http://schemas.openxmlformats.org/officeDocument/2006/relationships/slideLayout" Target="../slideLayouts/slideLayout23.xml"/><Relationship Id="rId4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5E96F-3A52-4F79-B359-24B09321B239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3980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Kristen ITC"/>
              </a:rPr>
              <a:t>Click to edit the title text format</a:t>
            </a:r>
            <a:endParaRPr b="0" lang="en-US" sz="3600" spc="-1" strike="noStrike">
              <a:solidFill>
                <a:srgbClr val="f7d47d"/>
              </a:solidFill>
              <a:latin typeface="Kristen ITC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31"/>
          <a:stretch/>
        </p:blipFill>
        <p:spPr>
          <a:xfrm>
            <a:off x="7885080" y="0"/>
            <a:ext cx="1258920" cy="685800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32"/>
          <a:stretch/>
        </p:blipFill>
        <p:spPr>
          <a:xfrm>
            <a:off x="8028000" y="5157720"/>
            <a:ext cx="950760" cy="150012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 rot="5400000">
            <a:off x="6590160" y="205632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f1311"/>
                </a:solidFill>
                <a:latin typeface="Kristen ITC"/>
              </a:rPr>
              <a:t>L’Etranger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Kristen ITC"/>
              </a:rPr>
              <a:t>Click to edit the outline text format</a:t>
            </a: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f1311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f131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3"/>
    <p:sldLayoutId id="2147483663" r:id="rId34"/>
    <p:sldLayoutId id="2147483664" r:id="rId35"/>
    <p:sldLayoutId id="2147483665" r:id="rId36"/>
    <p:sldLayoutId id="2147483666" r:id="rId37"/>
    <p:sldLayoutId id="2147483667" r:id="rId38"/>
    <p:sldLayoutId id="2147483668" r:id="rId39"/>
    <p:sldLayoutId id="2147483669" r:id="rId40"/>
    <p:sldLayoutId id="2147483670" r:id="rId41"/>
    <p:sldLayoutId id="2147483671" r:id="rId42"/>
    <p:sldLayoutId id="2147483672" r:id="rId43"/>
    <p:sldLayoutId id="2147483673" r:id="rId4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3980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7d47d"/>
                </a:solidFill>
                <a:latin typeface="Kristen ITC"/>
              </a:rPr>
              <a:t>Les mots-clé</a:t>
            </a:r>
            <a:endParaRPr b="0" lang="en-US" sz="3600" spc="-1" strike="noStrike">
              <a:solidFill>
                <a:srgbClr val="f7d47d"/>
              </a:solidFill>
              <a:latin typeface="Kristen ITC"/>
            </a:endParaRPr>
          </a:p>
        </p:txBody>
      </p:sp>
      <p:sp>
        <p:nvSpPr>
          <p:cNvPr id="193" name=""/>
          <p:cNvSpPr/>
          <p:nvPr/>
        </p:nvSpPr>
        <p:spPr>
          <a:xfrm>
            <a:off x="468360" y="1341360"/>
            <a:ext cx="6840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250920" y="1341360"/>
          <a:ext cx="7273800" cy="4135680"/>
        </p:xfrm>
        <a:graphic>
          <a:graphicData uri="http://schemas.openxmlformats.org/drawingml/2006/table">
            <a:tbl>
              <a:tblPr/>
              <a:tblGrid>
                <a:gridCol w="1976400"/>
                <a:gridCol w="344520"/>
                <a:gridCol w="2319120"/>
                <a:gridCol w="432000"/>
                <a:gridCol w="2201760"/>
              </a:tblGrid>
              <a:tr h="885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2f1311"/>
                          </a:solidFill>
                          <a:latin typeface="Tekton"/>
                        </a:rPr>
                        <a:t>1. lorry</a:t>
                      </a:r>
                      <a:endParaRPr b="0" lang="en-US" sz="26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1368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1368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2f1311"/>
                          </a:solidFill>
                          <a:latin typeface="Tekton"/>
                        </a:rPr>
                        <a:t>6. letter</a:t>
                      </a:r>
                      <a:endParaRPr b="0" lang="en-US" sz="26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1368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1368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2f1311"/>
                          </a:solidFill>
                          <a:latin typeface="Tekton"/>
                        </a:rPr>
                        <a:t>11. policeman</a:t>
                      </a:r>
                      <a:endParaRPr b="0" lang="en-US" sz="26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1368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</a:tr>
              <a:tr h="885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2f1311"/>
                          </a:solidFill>
                          <a:latin typeface="Tekton"/>
                        </a:rPr>
                        <a:t>2. ill</a:t>
                      </a:r>
                      <a:endParaRPr b="0" lang="en-US" sz="26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2f1311"/>
                          </a:solidFill>
                          <a:latin typeface="Tekton"/>
                        </a:rPr>
                        <a:t>7. revenge</a:t>
                      </a:r>
                      <a:endParaRPr b="0" lang="en-US" sz="26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2f1311"/>
                          </a:solidFill>
                          <a:latin typeface="Tekton"/>
                        </a:rPr>
                        <a:t>12. disappeared</a:t>
                      </a:r>
                      <a:endParaRPr b="0" lang="en-US" sz="26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</a:tr>
              <a:tr h="788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2f1311"/>
                          </a:solidFill>
                          <a:latin typeface="Tekton"/>
                        </a:rPr>
                        <a:t>3. beat</a:t>
                      </a:r>
                      <a:endParaRPr b="0" lang="en-US" sz="26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2f1311"/>
                          </a:solidFill>
                          <a:latin typeface="Tekton"/>
                        </a:rPr>
                        <a:t>8. swim</a:t>
                      </a:r>
                      <a:endParaRPr b="0" lang="en-US" sz="26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2f1311"/>
                          </a:solidFill>
                          <a:latin typeface="Tekton"/>
                        </a:rPr>
                        <a:t>13. crying</a:t>
                      </a:r>
                      <a:endParaRPr b="0" lang="en-US" sz="26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</a:tr>
              <a:tr h="788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2f1311"/>
                          </a:solidFill>
                          <a:latin typeface="Tekton"/>
                        </a:rPr>
                        <a:t>4. pimp</a:t>
                      </a:r>
                      <a:endParaRPr b="0" lang="en-US" sz="26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2f1311"/>
                          </a:solidFill>
                          <a:latin typeface="Tekton"/>
                        </a:rPr>
                        <a:t>9. love?</a:t>
                      </a:r>
                      <a:endParaRPr b="0" lang="en-US" sz="26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</a:tr>
              <a:tr h="78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2f1311"/>
                          </a:solidFill>
                          <a:latin typeface="Tekton"/>
                        </a:rPr>
                        <a:t>5. friend</a:t>
                      </a:r>
                      <a:endParaRPr b="0" lang="en-US" sz="26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1368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1368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2f1311"/>
                          </a:solidFill>
                          <a:latin typeface="Tekton"/>
                        </a:rPr>
                        <a:t>10. argument</a:t>
                      </a:r>
                      <a:endParaRPr b="0" lang="en-US" sz="26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1368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1368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13680">
                      <a:solidFill>
                        <a:srgbClr val="2f1311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4T12:37:07Z</dcterms:created>
  <dc:creator>Steve Badger</dc:creator>
  <dc:description/>
  <dc:language>en-US</dc:language>
  <cp:lastModifiedBy>Steve Badger</cp:lastModifiedBy>
  <dcterms:modified xsi:type="dcterms:W3CDTF">2006-08-28T11:53:28Z</dcterms:modified>
  <cp:revision>5</cp:revision>
  <dc:subject/>
  <dc:title>Les thèmes du récit</dc:title>
</cp:coreProperties>
</file>